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2F4-9BE2-4AAF-ADA2-9D13CC27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405-5C3C-4617-BFF1-1B31DD7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F73C-9FE2-4A86-84AF-5F929BC8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CB59-FCE3-46B9-BF1F-FD6E91CA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5E53-8CDA-4249-8516-8682911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443CF-3849-4DFC-9D3B-A6321DC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CF20-E7FA-4131-AC80-69FE83E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7148-40E0-43CA-8DE1-6C74593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B9399-74D9-4C4A-A549-6B705B24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0D36-298C-4FC0-A003-17933DD5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71E8A-3AFD-4F4E-83D5-DB9D92CA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8D81D-956B-49B9-B9BF-D0429EC5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7A3-3668-404F-8E34-F453BC19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9AF97-DDA3-4FAA-A4F4-A71ACA3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80B0D-C0E2-457A-97F8-F334107B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62F32-0B05-4026-BECC-AFFCB71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5CA98-71C6-44A3-9C0A-A581C148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82953-84D3-4CA4-AC93-EAA7F64D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A970-0187-4802-A8F8-084544B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E87EC-5431-4E7B-9EB9-9C8CCF1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D4227-1CF7-439C-8294-88A576B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31EB1-D882-4FAB-8D02-8BD510E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8C0E2-11BE-484D-B2DF-B14D3823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112-FE68-4635-B0D4-378A58F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4186B-224C-42EE-BC4D-E2F8C69D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0574-BAF4-44FA-A00D-4ACC0285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20507-ACF0-42E7-8D5D-7490FD0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53CB3-ADBC-4A12-AB27-009F18F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CFA65-8EA6-47FB-8882-81D6BDC7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B02A-1498-4920-87BA-8D5997D0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FC199-5CC1-4FFC-A2AF-E4D0A43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C1CE9-9754-4AEF-A49A-DC635931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23FE-1E13-4847-8671-8DB031F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52331-66C9-43C6-91C3-3BA09BB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0FC-BE0F-4A35-904E-09AF1218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C83EE-5791-4DD6-88E2-D425D9E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E5CBE-42C1-45C9-A561-0F1B423F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5B11C-B44E-4DE4-AE01-12758873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DFF7-BA1F-4650-ABD7-78930AE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7AD7A-01F9-4134-A887-821A4CD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F3A70-A9B3-43CD-AB6F-7298987A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A517E-98FE-4AB9-8D53-BD9F540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656FF-EDB6-4AB1-AEB0-440B371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D75E-9EF2-4280-B2CA-FEA1188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85DDE-970D-4B89-8A25-C182B7E5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BEE-F909-4A7A-A1A8-7EE9A312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2533F-49F5-4F55-BA7F-6E9568F0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1FE8E-ACD8-468A-8C40-FF17C9D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3E813-2372-46F1-BC9F-9F6A533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919EF-8D70-4AD7-9BAB-B5765559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66C7C-13CF-451F-B0AF-A9C1D8DE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A578D-7F61-4C01-BA7E-FC4438E9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7D59-4259-4C3C-A18C-E5A4680E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B648-DD36-4EF8-BF27-27AE1640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C8BA-5C4B-4480-948F-1965F047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8C82-9A52-4555-BE36-BF92FB62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E2D-ED61-475B-95CD-A6409AA8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AAAA3-5A9F-4957-99FB-D7317DA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D27AA-66C6-4E81-92E9-C84345F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7013E-96E6-428C-B2D7-395BFB8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8788-2E7D-4244-9381-C69724C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A99EC-FE53-4D3A-B436-6741269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A0CB4-597A-4669-BEA0-26CDDA1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A6FAA-E1A8-4C9E-A1E0-EDF0283F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DBF67-B3EB-4C9C-AD6A-EBD2A90F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FE8CB-417E-4D46-A113-D527E76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FE3DE-4CA0-4737-A4A1-58320680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970D-CC28-400E-9007-6B4D6C4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D56E9-247A-4CB2-AD20-11A418C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9A2A8-2968-48C4-AC10-BA37951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B8D59-0B8D-4F01-B594-E25C4FE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92F81-9449-4496-9869-42503B04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30A11-5C98-438D-AB47-9F927B1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CA302-88B3-41FC-A977-10555B1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D1877-64BC-43C4-9C05-4AB708BB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1722D-4CBA-4B57-8039-3BE3C5DE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B34EE-95C3-4673-B61D-A316BAA4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C5343-0AFB-413B-B50D-1F5243A7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EC8-63E8-490D-8A99-4D4C220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BC2EC-4DFA-4D84-BDD8-53754DA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F3E47-2819-45A6-8A23-5E6B41D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55CBF-27EC-4558-88B9-D05487C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69B03-19C4-44DC-96DF-8123A650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F9915-F9B0-48E4-801C-FD18FC93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DC236-A424-44EC-A1EA-5656797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C77E6-C473-4E99-9954-E2CFC0B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D30ED-B066-4910-9D23-9B6D493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E5F6D-5C73-4434-9B47-7225C7CB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2833C-3CDB-4D82-80F0-B9B2E173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2D78-27BF-4C48-BE58-A598E1B2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E90EF-A2D4-4648-8C2E-8956AEC8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0AE83-60C9-44ED-ACE4-2A1CBA65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35C5C-83A8-4AAF-9DF7-6BF0CD7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4D30C-BBE5-4905-BEDC-DA4E3D0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FA5DA-03A1-4BDB-92EF-A1E3A75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3DE83-25A8-4754-94E6-8FE05B52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CD00B-41AF-482D-81DB-8276551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F1D13-D09E-4605-B973-033C8B2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53E77-C575-459F-AD53-3348B2C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3FBC9-0213-40FD-B8C0-6FB31032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0D35-E2AE-40B4-9AEA-05A5AD6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CC7AA-4548-4F9F-A494-0E81FCE0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DC02A-D590-48FA-BC57-007F5FE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05A60-3C5A-47A5-A4D0-072C5ADB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4E9D6-FDFA-439F-98AD-B049D1B9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1506F-50CE-4CA2-9CA9-9FE0682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8430C-2FD2-4DC5-836E-846588F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03337-7482-4E15-903A-BF5A1DD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DF5B8-4B1F-4352-953E-54D93E0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C2FA2-A981-49B1-AC31-9FD2F26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FBDF5-326B-434E-9747-D56D83B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2B4-11EC-42E6-827C-2B29698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A20E-5A3B-467A-A7FF-25792D3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AF430-BD98-4B6D-ADD1-40A5467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CD16E-AB70-45AC-832C-9DE3B71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331A9-878D-4FF1-9F1E-8A5C574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567F6-0D5D-4091-86AA-D7E1387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0A226-588B-4B97-8B8E-7F425061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56A2C-23C2-4306-9DE2-1B0F017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BDF51-212F-45A5-8E3D-A7623D90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54C2A-B336-45AC-92BE-5E18346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9397F-F490-4930-AEC4-971E7FE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1C78F-296B-4C4A-950C-FEF3C341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5A2C-82F7-4216-A631-0F92D94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8516D-64D9-4F27-9B26-6091D385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90A0A-198F-42BD-A0B2-A395BBB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62696-1F80-47CA-AEB2-A3D2ACC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8E26F-A820-47BE-B8C5-ABEF252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2069B-5818-4A15-B3DB-4849E1E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E144F-FE02-4B85-981D-EE766E77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25ADE-2223-44F4-8725-D2A57E82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7DEF1-0509-4952-9566-1D36F9B3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7AB1D-4CC4-4373-94CF-F7B2E98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0ACD3-096D-43F9-AEB2-D46AA06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6075-D377-42B1-82AD-F661071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BC0E49-43CC-4751-8C03-F9B6DA8A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F46B8-37E7-4980-A5E5-71726D8E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EB2F1-026A-4F67-B108-D8F49F4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6810C-651F-4AB5-8C62-0110729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13B16-8524-4885-870B-12AA6B4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DE90D-E8DA-4BC2-9B22-0C72A79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414C1-5834-45B5-8793-C399FAC8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BCAD8-830B-4CB4-BE05-D328BE54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72096-DEAE-44A4-82A2-E4C74D4C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C3BEC-D247-4565-AF8B-1C88595B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4DC7-AA51-4802-B83C-8CE166C4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0E8A2-8FFA-4E50-8DF7-82970FB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6839A-75E1-426E-B4D5-2E1D280A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4C656-8D50-40E6-AD26-D468C512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8E5B8-DAF1-4BF4-98BE-9321F2B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F399C-E019-49D2-9337-32B3384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CFB75-B278-469D-A1AF-6FC3112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BC3B2-1D57-4179-8529-4F76B09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85369-67BD-40AD-8F63-F995F58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A0D6E-C4BF-49A4-9474-F463FD4D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04519-7B26-4F7D-AA6F-5DDB69EF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33E-ABD4-4F46-957A-692FD99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FCE41-631B-40C0-83D0-DE0157B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CEF-9F8F-4EA6-80B3-2C2231EF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8683-E2D1-4053-A06C-5B2D947C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5317-8719-4BDB-A431-669D187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6ABF-B5C7-4B0A-A54B-371BA24C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043-7A87-4075-A131-B053238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F486-854F-48FD-B3FF-DA64E6B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864D-55CF-41A4-A1F3-DE4FBBC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A28A-FC6C-4511-A600-452F80D7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461E-8151-4F33-AF79-8F938C5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52F7-E751-4FD3-97AD-70BEF0B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7DC8-3CA7-4893-B93B-B083F75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D105-FB47-4006-BFE0-878D8D58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3603-5692-4738-983A-981CE000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42FC-7122-4D27-843B-C0E00336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F2CE-423F-48ED-AF0E-E20787D3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4BF-7463-48D2-96E6-37CC18F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9D35-7530-4641-AB04-70D31B0C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4848-E612-4954-8CC0-E7B6B24A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B8BE-C7E0-4AAA-BB17-C615A6A9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2D2C-7323-4DCB-AB3D-5DCA1EB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06D9-0B64-43E1-B427-76C1DBE6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5D64-7733-49A2-A3DD-C10A851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DA4E-4FEC-4C62-88C3-5A6DBB1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2ADB-8612-4F13-8CDB-BD09BE3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C924-BE85-4183-8B5A-4913656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99AD-61E7-4F3A-8A97-15F94FC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54D-2C12-4AAD-87E0-B78B7BB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EC52-6507-4876-B707-3835B3E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1A3C-4071-47E6-941D-D821BC36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257D-55DC-4481-80D1-3B078F7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08D9-D63E-409F-B4D7-7D1B0A4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0EE2-5D7E-4011-801C-A259BFE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F8BE-BDDD-47DA-B4FF-73CDF67A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51C4-F29C-4456-AAFF-B144E40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0B19-29CB-466E-B2A8-EF558FF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F23A-07D6-40DC-849B-9134A7D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745E-359E-49A1-8169-7C6E9F4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76E-52B4-4759-AFDA-2B1CEE5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52C1-A64E-46C8-8EC6-8DF7DBF8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5132-E4F0-4463-9286-BB7DE660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AEF7-AC76-4D34-81F0-CE9283BC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5E17-8457-4A1F-BCAA-E21FDBDA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8097-5611-4A74-930C-5464642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7B8A8-2AD1-4E3F-941D-60E6DDBB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89C6-66BE-4950-B47B-41C430E3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B7DFC-5874-4BB7-A0BA-8A44DDA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B653-4471-4122-B31A-DF905C5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231F8-DDCD-426F-A1DC-F1CB3C3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C37-882D-4D11-A8B3-EA36972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36DA-5630-4DFF-A8B4-31617A0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3177-95AD-434F-B47A-0026BB1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E609-8512-4856-B288-BBFF4D5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4D40-9DC0-465D-9C10-92AB999B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943B-7942-4BBC-923E-92FB8F17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EBE36-C818-4C2B-9319-70EFE65E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197E-DBFF-49E1-9B34-ED9E21E3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734E-A9D9-4965-9ADC-508D23B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CC50-0102-41F2-A394-AF80A31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571EA-4D37-4D96-8B6A-9AC848F8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1EA-4627-446B-AF23-1D45564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34C04-43F0-416D-A7D1-DA3F0DD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97DD-9F22-4929-ACD5-4A59431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D3C4-7703-461B-8E86-B9CD9A2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4AC6-4DEF-4010-923C-85CF640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33F5-E02D-40A5-8419-28A0981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6056-5158-4841-9766-F49B5817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EEEA-44D8-4250-BA7F-5680061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9A478-6AFA-4782-ABC7-B710ED5C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40912-C68D-47A3-A6C2-92F2EDC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F1BD-965E-47EB-A7E8-23343BC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95c7d"/>
              </a:gs>
              <a:gs pos="100000">
                <a:srgbClr val="042b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42b3a"/>
              </a:gs>
              <a:gs pos="100000">
                <a:srgbClr val="095c7d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FCE-A249-41B4-B8B6-134299E44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7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459-72B3-47DD-927B-7E8B4A0F126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3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3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3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3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64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66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9EA-B4FA-4086-9200-45A974DA4A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0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0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0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0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0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0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71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1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2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72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18C-3C04-4FA7-A103-8B4F0FC31CA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7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7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7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8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8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9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7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3E1-52CB-4D6C-B613-73EB15CFE0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8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5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8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DCC9-3B7E-43D4-A373-F352088D3A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9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2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9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470-13FB-4D98-8FE6-CB49A8765A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9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0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0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0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68DC-2197-4638-B4CE-52F5766FEB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6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0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7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AAD-70E4-4416-AD2B-9A99BB4443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1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3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C1E-5B80-4F3D-A51B-49DECE57567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2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B85-2CC0-499F-9D2C-F3BE5F3F6B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2569-D836-481B-A4F4-AB81385A4C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6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27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7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8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55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56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57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D285-7B47-447D-A6D6-92C2CDFBC0E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5C88-2926-4FB4-812A-54C3E2DB3D2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16DC-2A33-4815-9373-D8B33FB47E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93F-C3C0-444C-ADF5-FDB28ED77A1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D37-1B69-42CF-B001-32199112D3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526F-EE79-49A1-A25F-E44503D063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1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3E3-28F9-415A-82B4-61A5D75CB58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5ballov.qip.ru/ratings/100/?sort=1&amp;city=13180&amp;status[0]=1&amp;s=1" TargetMode="External"/><Relationship Id="rId2" Type="http://schemas.openxmlformats.org/officeDocument/2006/relationships/hyperlink" Target="http://5ballov.qip.ru/ratings/100/?sort=6&amp;city=13180&amp;status[0]=1&amp;s=1" TargetMode="External"/><Relationship Id="rId3" Type="http://schemas.openxmlformats.org/officeDocument/2006/relationships/hyperlink" Target="http://5ballov.qip.ru/universities/habarovskiy-voennyiy-institut-federalnoy-pogranichnoy-slujbyi-fsb-rf/" TargetMode="External"/><Relationship Id="rId4" Type="http://schemas.openxmlformats.org/officeDocument/2006/relationships/hyperlink" Target="http://5ballov.qip.ru/universities/dalnevostochnyiy-gosudarstvennyiy-universitet-putey-soobscheniya/" TargetMode="External"/><Relationship Id="rId5" Type="http://schemas.openxmlformats.org/officeDocument/2006/relationships/hyperlink" Target="http://5ballov.qip.ru/universities/habarovskaya-gosudarstvennaya-akademiya-ekonomiki-i-prava/" TargetMode="External"/><Relationship Id="rId6" Type="http://schemas.openxmlformats.org/officeDocument/2006/relationships/hyperlink" Target="http://5ballov.qip.ru/universities/tihookeanskiy-gosudarstvennyiy-universitet/" TargetMode="External"/><Relationship Id="rId7" Type="http://schemas.openxmlformats.org/officeDocument/2006/relationships/hyperlink" Target="http://5ballov.qip.ru/universities/dalnevostochnyiy-gosudarstvennyiy-meditsinskiy-universitet/" TargetMode="External"/><Relationship Id="rId8" Type="http://schemas.openxmlformats.org/officeDocument/2006/relationships/hyperlink" Target="http://5ballov.qip.ru/universities/dalnevostochnyiy-yuridicheskiy-institut-mvd-rf/" TargetMode="External"/><Relationship Id="rId9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47320" y="1699920"/>
            <a:ext cx="74199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«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Жизнь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дарит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человеку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три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радости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–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друга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,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любовь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и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работу</a:t>
            </a: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»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42920" y="358128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00d7b"/>
                </a:solidFill>
                <a:latin typeface="Century Gothic"/>
              </a:rPr>
              <a:t>(братья Стругацкие, «Стажеры»)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610920" y="2808000"/>
            <a:ext cx="6888600" cy="3104280"/>
          </a:xfrm>
          <a:prstGeom prst="rect">
            <a:avLst/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0e66"/>
                </a:solidFill>
                <a:latin typeface="Century Gothic"/>
              </a:rPr>
              <a:t>Второй фактор </a:t>
            </a:r>
            <a:r>
              <a:rPr b="1" lang="ru-RU" sz="4000" spc="-1" strike="noStrike">
                <a:solidFill>
                  <a:srgbClr val="7f0e66"/>
                </a:solidFill>
                <a:latin typeface="Century Gothic"/>
              </a:rPr>
              <a:t>«Могу»:</a:t>
            </a:r>
            <a:r>
              <a:rPr b="1" lang="ru-RU" sz="2000" spc="-1" strike="noStrike">
                <a:solidFill>
                  <a:srgbClr val="7f0e6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0e66"/>
                </a:solidFill>
                <a:latin typeface="Century Gothic"/>
              </a:rPr>
              <a:t>Познакомить ребенка с требованиями, которые может предъявить  выбранная им профессия. Помочь ему выявить способности и умения, знания и навыки, полученные в школе, рассказать, как можно применить их к выбираемой профессии.</a:t>
            </a:r>
            <a:r>
              <a:rPr b="0" lang="ru-RU" sz="2000" spc="-1" strike="noStrike">
                <a:solidFill>
                  <a:srgbClr val="7f0e6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800" spc="-1" strike="noStrike" u="sng">
              <a:solidFill>
                <a:srgbClr val="1581aa"/>
              </a:solidFill>
              <a:uFillTx/>
              <a:latin typeface="Century Gothic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50920" y="2437200"/>
            <a:ext cx="7298280" cy="3936600"/>
          </a:xfrm>
          <a:prstGeom prst="rect">
            <a:avLst/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0e66"/>
                </a:solidFill>
                <a:latin typeface="Century Gothic"/>
              </a:rPr>
              <a:t>Третий фактор </a:t>
            </a:r>
            <a:r>
              <a:rPr b="1" lang="ru-RU" sz="4400" spc="-1" strike="noStrike">
                <a:solidFill>
                  <a:srgbClr val="7f0e66"/>
                </a:solidFill>
                <a:latin typeface="Century Gothic"/>
              </a:rPr>
              <a:t>«Надо»:</a:t>
            </a:r>
            <a:r>
              <a:rPr b="1" lang="ru-RU" sz="2400" spc="-1" strike="noStrike">
                <a:solidFill>
                  <a:srgbClr val="7f0e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0e66"/>
                </a:solidFill>
                <a:latin typeface="Century Gothic"/>
              </a:rPr>
              <a:t>Обсудить с подростком, насколько реально найти работу по выбранной профессии, в каких учебных заведениях можно получить интересующую его специальнос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Рисунок 1" descr=""/>
          <p:cNvPicPr/>
          <p:nvPr/>
        </p:nvPicPr>
        <p:blipFill>
          <a:blip r:embed="rId1"/>
          <a:stretch/>
        </p:blipFill>
        <p:spPr>
          <a:xfrm>
            <a:off x="969840" y="1127160"/>
            <a:ext cx="78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76360" y="1557000"/>
            <a:ext cx="7058160" cy="19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581aa"/>
                </a:solidFill>
                <a:latin typeface="Century Gothic"/>
              </a:rPr>
              <a:t>Каковы ваши дальнейшие действия? </a:t>
            </a:r>
            <a:endParaRPr b="0" lang="en-US" sz="44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354" name="Рисунок 3" descr=""/>
          <p:cNvPicPr/>
          <p:nvPr/>
        </p:nvPicPr>
        <p:blipFill>
          <a:blip r:embed="rId1"/>
          <a:stretch/>
        </p:blipFill>
        <p:spPr>
          <a:xfrm>
            <a:off x="6004080" y="371808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5" name=""/>
          <p:cNvGraphicFramePr/>
          <p:nvPr/>
        </p:nvGraphicFramePr>
        <p:xfrm>
          <a:off x="611280" y="907920"/>
          <a:ext cx="8281800" cy="5873760"/>
        </p:xfrm>
        <a:graphic>
          <a:graphicData uri="http://schemas.openxmlformats.org/drawingml/2006/table">
            <a:tbl>
              <a:tblPr/>
              <a:tblGrid>
                <a:gridCol w="836640"/>
                <a:gridCol w="5716440"/>
                <a:gridCol w="1728720"/>
              </a:tblGrid>
              <a:tr h="267480"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№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 w="5760">
                      <a:solidFill>
                        <a:srgbClr val="1cace3"/>
                      </a:solidFill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1"/>
                        </a:rPr>
                        <a:t>Наименование вуза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 w="5760">
                      <a:solidFill>
                        <a:srgbClr val="1cace3"/>
                      </a:solidFill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2"/>
                        </a:rPr>
                        <a:t>Голоса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 w="5760">
                      <a:solidFill>
                        <a:srgbClr val="1cace3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1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3"/>
                        </a:rPr>
                        <a:t>Хабаровский военный институт Федеральной пограничной службы ФСБ РФ 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10244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cace3"/>
                      </a:solidFill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2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4"/>
                        </a:rPr>
                        <a:t>Дальневосточный Государственный Университет Путей Сообщения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7483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3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5"/>
                        </a:rPr>
                        <a:t>Хабаровская Государственная Академия Экономики и Права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4913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3834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4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6"/>
                        </a:rPr>
                        <a:t>Тихоокеанский государственный Университет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3782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5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7"/>
                        </a:rPr>
                        <a:t>Дальневосточный Государственный Медицинский Университет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2696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38304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6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2da0f1"/>
                          </a:solidFill>
                          <a:uFillTx/>
                          <a:latin typeface="Century Gothic"/>
                          <a:hlinkClick r:id="rId8"/>
                        </a:rPr>
                        <a:t>Дальневосточный Юридический Институт МВД РФ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2221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7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7f0e66"/>
                          </a:solidFill>
                          <a:uFillTx/>
                          <a:latin typeface="Century Gothic"/>
                        </a:rPr>
                        <a:t>Дальневосточная Академия Государственной Службы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1610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8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7f0e66"/>
                          </a:solidFill>
                          <a:uFillTx/>
                          <a:latin typeface="Century Gothic"/>
                        </a:rPr>
                        <a:t>Дальневосточный Государственный Гуманитарный Университет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1459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9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7f0e66"/>
                          </a:solidFill>
                          <a:uFillTx/>
                          <a:latin typeface="Century Gothic"/>
                        </a:rPr>
                        <a:t>Хабаровский Государственный Институт Искусств и Культуры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1105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5097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10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7f0e66"/>
                          </a:solidFill>
                          <a:uFillTx/>
                          <a:latin typeface="Century Gothic"/>
                        </a:rPr>
                        <a:t>Дальневосточная Государственная Академия Физической Культуры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988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68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7f0e66"/>
                          </a:solidFill>
                          <a:latin typeface="Century Gothic"/>
                        </a:rPr>
                        <a:t>11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cace3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7f0e66"/>
                          </a:solidFill>
                          <a:uFillTx/>
                          <a:latin typeface="Century Gothic"/>
                        </a:rPr>
                        <a:t>Хабаровский филиал Сибирской Государственной Академии Телекоммуникаций и Информатики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cace3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[838]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cace3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56" name="TextBox 2"/>
          <p:cNvSpPr/>
          <p:nvPr/>
        </p:nvSpPr>
        <p:spPr>
          <a:xfrm>
            <a:off x="1205280" y="260280"/>
            <a:ext cx="73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Arial"/>
              </a:rPr>
              <a:t>Рейтинг ВУЗов Хабаровска   </a:t>
            </a:r>
            <a:r>
              <a:rPr b="1" lang="ru-RU" sz="2800" spc="-1" strike="noStrike" u="sng">
                <a:solidFill>
                  <a:srgbClr val="99ccff"/>
                </a:solidFill>
                <a:uFillTx/>
                <a:latin typeface="Arial"/>
              </a:rPr>
              <a:t>5ballov</a:t>
            </a:r>
            <a:r>
              <a:rPr b="0" lang="ru-RU" sz="2800" spc="-1" strike="noStrike" u="sng">
                <a:solidFill>
                  <a:srgbClr val="99ccff"/>
                </a:solidFill>
                <a:uFillTx/>
                <a:latin typeface="Arial"/>
              </a:rPr>
              <a:t>.qip.ru</a:t>
            </a:r>
            <a:r>
              <a:rPr b="0" lang="ru-RU" sz="2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70912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Как вы думаете, какие профессии на данный момент самые востребованные?</a:t>
            </a:r>
            <a:br>
              <a:rPr sz="3600"/>
            </a:b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(</a:t>
            </a:r>
            <a:r>
              <a:rPr b="0" i="1" lang="ru-RU" sz="3600" spc="-1" strike="noStrike">
                <a:solidFill>
                  <a:srgbClr val="1581aa"/>
                </a:solidFill>
                <a:latin typeface="Century Gothic"/>
              </a:rPr>
              <a:t>Видео) 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Что делать, если ваш ребенок выбрал профессию и вы с его выбором не согласны? </a:t>
            </a:r>
            <a:br>
              <a:rPr sz="3600"/>
            </a:br>
            <a:r>
              <a:rPr b="0" i="1" lang="ru-RU" sz="3600" spc="-1" strike="noStrike">
                <a:solidFill>
                  <a:srgbClr val="1581aa"/>
                </a:solidFill>
                <a:latin typeface="Century Gothic"/>
              </a:rPr>
              <a:t>(Видео)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Диаграмма 1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Диаграмма 2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56960" cy="68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Диаграм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WordArt 7"/>
          <p:cNvSpPr txBox="1"/>
          <p:nvPr/>
        </p:nvSpPr>
        <p:spPr>
          <a:xfrm>
            <a:off x="539640" y="1700280"/>
            <a:ext cx="828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1f1f99"/>
                </a:solidFill>
                <a:latin typeface="Arial"/>
              </a:rPr>
              <a:t>                     </a:t>
            </a:r>
            <a:endParaRPr b="0" lang="en-US" sz="1200" spc="1" strike="noStrike">
              <a:ln w="0">
                <a:noFill/>
              </a:ln>
              <a:solidFill>
                <a:srgbClr val="1f1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Диаграм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2"/>
          <p:cNvSpPr/>
          <p:nvPr/>
        </p:nvSpPr>
        <p:spPr>
          <a:xfrm>
            <a:off x="0" y="189000"/>
            <a:ext cx="8839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7c0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f0e66"/>
                </a:solidFill>
                <a:uFillTx/>
                <a:latin typeface="Arial"/>
              </a:rPr>
              <a:t>Стратегия выбора профессии:</a:t>
            </a:r>
            <a:r>
              <a:rPr b="1" lang="ru-RU" sz="1200" spc="-1" strike="noStrike">
                <a:solidFill>
                  <a:srgbClr val="7f0e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cc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4" name="Rectangle 3"/>
          <p:cNvSpPr/>
          <p:nvPr/>
        </p:nvSpPr>
        <p:spPr>
          <a:xfrm>
            <a:off x="1692360" y="5300640"/>
            <a:ext cx="7200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7c0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Arial"/>
              </a:rPr>
              <a:t>4.      Продумать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 вместе с ребенком запасные варианты на случай затруднения в реализации основного плана.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5" name="Rectangle 4"/>
          <p:cNvSpPr/>
          <p:nvPr/>
        </p:nvSpPr>
        <p:spPr>
          <a:xfrm>
            <a:off x="395280" y="1052640"/>
            <a:ext cx="604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Arial"/>
              </a:rPr>
              <a:t>1.Обозначить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 несколько альтернативных вариантов профессионального выбора.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6" name="Rectangle 5"/>
          <p:cNvSpPr/>
          <p:nvPr/>
        </p:nvSpPr>
        <p:spPr>
          <a:xfrm>
            <a:off x="3132000" y="2060640"/>
            <a:ext cx="55436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Arial"/>
              </a:rPr>
              <a:t>2. Оценить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 вместе с подростком достоинства и недостатки каждого варианта.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1908000" y="3429000"/>
            <a:ext cx="6985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Arial"/>
              </a:rPr>
              <a:t>3. 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Помочь </a:t>
            </a:r>
            <a:r>
              <a:rPr b="1" i="1" lang="ru-RU" sz="2000" spc="-1" strike="noStrike">
                <a:solidFill>
                  <a:srgbClr val="99ccff"/>
                </a:solidFill>
                <a:latin typeface="Arial"/>
              </a:rPr>
              <a:t>исследовать шансы его успешности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в каждом выборе и просчитать последствия каждого варианта.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8" name=""/>
          <p:cNvGraphicFramePr/>
          <p:nvPr/>
        </p:nvGraphicFramePr>
        <p:xfrm>
          <a:off x="395280" y="404640"/>
          <a:ext cx="8640720" cy="61074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3824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Главная цель – какую профессию выбираю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Чем буду заниматься, какой трудовой вклад внесу в общее дело, каким буду, где буду, на кого буду равняться, кем я буду, чего достигну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Ближайшие задачи и более отдаленные цели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Первая проба сил, работа, чему и где учиться, перспективы повышения мастерства, профессионального роста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109080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Пути и средства достижения ближайших целей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Изучение справочной литературы, беседы со специалистами, самообразование, поступление в определенное учебное заведение (ПТУ, колледж, ВУЗ курсы)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Внешние препятствия на пути достижения цели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Трудности, возможные препятствия, возможные противодействия тех или иных людей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  <a:tr h="159840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Свои возможности для достижения цели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Состояние здоровья, способности к обучению, настойчивость, терпение, склонности к практической и теоретической работе, другие личные качества, необходимые для учебы и работы по данной специальности, работа по самовоспитанию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Запасные варианты и пути их достижения</a:t>
                      </a:r>
                      <a:endParaRPr b="0" lang="en-US" sz="16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Например: “не пройду по конкурсу в техникум – попробую поступить на ту же специальность в ПТУ “ и т.д.</a:t>
                      </a:r>
                      <a:endParaRPr b="0" lang="en-US" sz="14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9" name="Rectangle 1"/>
          <p:cNvSpPr/>
          <p:nvPr/>
        </p:nvSpPr>
        <p:spPr>
          <a:xfrm>
            <a:off x="539640" y="-5616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e66"/>
                </a:solidFill>
                <a:latin typeface="Calibri"/>
                <a:ea typeface="Times New Roman"/>
              </a:rPr>
              <a:t>Схема личного профессионального плана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Роль родителя в выборе</a:t>
            </a:r>
            <a:br>
              <a:rPr sz="3600"/>
            </a:b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(Видео)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50920" y="-662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1581aa"/>
                </a:solidFill>
                <a:latin typeface="Century Gothic"/>
              </a:rPr>
              <a:t>ГЛАВНЫЙ ПРИНЦИП ВЫБОРА ПРОФЕССИИ</a:t>
            </a:r>
            <a:br>
              <a:rPr sz="4000"/>
            </a:br>
            <a:r>
              <a:rPr b="0" lang="ru-RU" sz="4000" spc="-1" strike="noStrike">
                <a:solidFill>
                  <a:srgbClr val="1581aa"/>
                </a:solidFill>
                <a:latin typeface="Century Gothic"/>
              </a:rPr>
              <a:t>  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250920" y="971280"/>
            <a:ext cx="24048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ЧТО ВЫ ХОТИТЕ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аш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+желани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+интерес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+склоннос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73" name="Picture 4" descr="treug"/>
          <p:cNvPicPr/>
          <p:nvPr/>
        </p:nvPicPr>
        <p:blipFill>
          <a:blip r:embed="rId1"/>
          <a:stretch/>
        </p:blipFill>
        <p:spPr>
          <a:xfrm>
            <a:off x="2573280" y="260280"/>
            <a:ext cx="3641760" cy="3556080"/>
          </a:xfrm>
          <a:prstGeom prst="rect">
            <a:avLst/>
          </a:prstGeom>
          <a:ln w="0">
            <a:noFill/>
          </a:ln>
        </p:spPr>
      </p:pic>
      <p:sp>
        <p:nvSpPr>
          <p:cNvPr id="1374" name="Rectangle 5"/>
          <p:cNvSpPr/>
          <p:nvPr/>
        </p:nvSpPr>
        <p:spPr>
          <a:xfrm>
            <a:off x="1782720" y="4556520"/>
            <a:ext cx="53532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f0e66"/>
                </a:solidFill>
                <a:uFillTx/>
                <a:latin typeface="Arial"/>
              </a:rPr>
              <a:t>НАДО ли </a:t>
            </a:r>
            <a:br>
              <a:rPr sz="2000"/>
            </a:br>
            <a:r>
              <a:rPr b="1" lang="ru-RU" sz="2000" spc="-1" strike="noStrike" u="sng">
                <a:solidFill>
                  <a:srgbClr val="7f0e66"/>
                </a:solidFill>
                <a:uFillTx/>
                <a:latin typeface="Arial"/>
              </a:rPr>
              <a:t>выбирать эту профессию?</a:t>
            </a:r>
            <a:br>
              <a:rPr sz="2000"/>
            </a:b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e66"/>
                </a:solidFill>
                <a:latin typeface="Arial"/>
              </a:rPr>
              <a:t>Есть ли на нее спрос на рынке труда?</a:t>
            </a:r>
            <a:r>
              <a:rPr b="1" lang="ru-RU" sz="2400" spc="-1" strike="noStrike">
                <a:solidFill>
                  <a:srgbClr val="7f0e66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6230880" y="752760"/>
            <a:ext cx="3059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ЧТО ВЫ СМОЖЕТЕ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Ваши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+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+преобладающий тип мышления, тип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личности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+здоровье (с учетом медицинских ограничений)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6" name="Rectangle 7"/>
          <p:cNvSpPr/>
          <p:nvPr/>
        </p:nvSpPr>
        <p:spPr>
          <a:xfrm flipV="1">
            <a:off x="0" y="1797480"/>
            <a:ext cx="4206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7" name="Rectangle 8"/>
          <p:cNvSpPr/>
          <p:nvPr/>
        </p:nvSpPr>
        <p:spPr>
          <a:xfrm flipV="1">
            <a:off x="0" y="2589840"/>
            <a:ext cx="4206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8" name="AutoShape 9"/>
          <p:cNvSpPr/>
          <p:nvPr/>
        </p:nvSpPr>
        <p:spPr>
          <a:xfrm>
            <a:off x="2589120" y="1703520"/>
            <a:ext cx="792360" cy="431640"/>
          </a:xfrm>
          <a:prstGeom prst="leftArrow">
            <a:avLst>
              <a:gd name="adj1" fmla="val 50000"/>
              <a:gd name="adj2" fmla="val 45892"/>
            </a:avLst>
          </a:prstGeom>
          <a:solidFill>
            <a:srgbClr val="3535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9" name="AutoShape 10"/>
          <p:cNvSpPr/>
          <p:nvPr/>
        </p:nvSpPr>
        <p:spPr>
          <a:xfrm rot="16200000">
            <a:off x="4026600" y="385488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3535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0" name="AutoShape 11"/>
          <p:cNvSpPr/>
          <p:nvPr/>
        </p:nvSpPr>
        <p:spPr>
          <a:xfrm rot="10800000">
            <a:off x="5375160" y="173664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3535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Тестирование учащихся отделом социальной защиты населени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(Видео)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3" name="Rectangle 3"/>
          <p:cNvSpPr/>
          <p:nvPr/>
        </p:nvSpPr>
        <p:spPr>
          <a:xfrm>
            <a:off x="179280" y="1197000"/>
            <a:ext cx="4321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«за компанию»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Часто молодой человек или девушка, не знающие своих способностей, просто поступают в то же учебное заведение, что и их друзья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4" name="Rectangle 4"/>
          <p:cNvSpPr/>
          <p:nvPr/>
        </p:nvSpPr>
        <p:spPr>
          <a:xfrm>
            <a:off x="4572000" y="2133720"/>
            <a:ext cx="4419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естижной профессии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В данный момент престижными считаются профессии экономиста, бухгалтера, юриста, менеджера, переводчика и др. Интерес к ним есть у большинства выпускников школ, но не у всех есть способности к этим профессиям (высокая эрудиция, энергия, коммуникабельность, работоспособность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5" name="Rectangle 5"/>
          <p:cNvSpPr/>
          <p:nvPr/>
        </p:nvSpPr>
        <p:spPr>
          <a:xfrm>
            <a:off x="250920" y="3284640"/>
            <a:ext cx="419076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учебного предмета с професси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Например, ученица хорошо пишет сочинения и решает, что ее призвание - журналистика. Однако профессия журналиста предполагает частые поездки, умение вникать в разные сферы деятельности и взаимоотношения людей, а не только написание статей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7" name="Rectangle 3"/>
          <p:cNvSpPr/>
          <p:nvPr/>
        </p:nvSpPr>
        <p:spPr>
          <a:xfrm>
            <a:off x="179280" y="1125360"/>
            <a:ext cx="4321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профессии с конкретным человеком, который нравится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К примеру, младший брат восхищается старшим, летчиком по профессии. Из любви к брату он тоже решает, что это его призвание. Но это далеко не всегда соответствует действительност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8" name="Rectangle 4"/>
          <p:cNvSpPr/>
          <p:nvPr/>
        </p:nvSpPr>
        <p:spPr>
          <a:xfrm>
            <a:off x="4572000" y="1844640"/>
            <a:ext cx="4419720" cy="42087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соответствие здоровья и условий труда по избранной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обходимо знать и учитывать особенности организма подростка, условий, в которых  придется работать, иначе его может ожидать разочарование или ухудшение состояния здоровья. Ряд профессий предъявляют очень жесткие требования к физическому здоровью,  а для некоторых профессиональных занятий существует ряд строгих медицинских противопоказаний (например, плохое зрение для водителя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9" name="Rectangle 5"/>
          <p:cNvSpPr/>
          <p:nvPr/>
        </p:nvSpPr>
        <p:spPr>
          <a:xfrm>
            <a:off x="250920" y="3716280"/>
            <a:ext cx="419076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Устаревшие представления о характере труда и возможностях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знание динамики развития профессий в связи с техническим прогрессом приводит к ошибкам. Нередко под названием профессии скрыт совершенно новый темп и характер труда. Всегда нужно стремиться узнать именно о современном облике професси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1" name="Rectangle 3"/>
          <p:cNvSpPr/>
          <p:nvPr/>
        </p:nvSpPr>
        <p:spPr>
          <a:xfrm>
            <a:off x="900000" y="1268280"/>
            <a:ext cx="4321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умение разобраться в себе, своих склонностях, способностях и мотивах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Помощь в самопознании могут оказать психолог, специалисты по профориентации, учителя, родители, специальная литература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2" name="Rectangle 4"/>
          <p:cNvSpPr/>
          <p:nvPr/>
        </p:nvSpPr>
        <p:spPr>
          <a:xfrm>
            <a:off x="4140360" y="3429000"/>
            <a:ext cx="441936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fe2e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под давлением родител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Очень часто родители совершают ошибки, влияющие на правильность профессионального выбора подростка.  Они  даже настаивают на выборе варианта, который в силу различных обстоятельств жизни не удалось осуществить им самим, то есть через ребенка они пытаются реализовать свою собственную мечту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WordArt 9"/>
          <p:cNvSpPr txBox="1"/>
          <p:nvPr/>
        </p:nvSpPr>
        <p:spPr>
          <a:xfrm>
            <a:off x="539640" y="115920"/>
            <a:ext cx="8137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1676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581aa"/>
                </a:solidFill>
                <a:latin typeface="Century Gothic"/>
              </a:rPr>
              <a:t>Давайте познакомимся </a:t>
            </a:r>
            <a:endParaRPr b="0" lang="en-US" sz="44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692360" y="2707920"/>
            <a:ext cx="7200720" cy="17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 называете свое имя и профессию, которая начинается на ту же букву, что и ваше имя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5959"/>
                </a:solidFill>
                <a:latin typeface="Century Gothic"/>
              </a:rPr>
              <a:t>Например, Анна Юрьевна –Архитектор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547280" y="2074680"/>
            <a:ext cx="741708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581aa"/>
                </a:solidFill>
                <a:latin typeface="Century Gothic"/>
              </a:rPr>
              <a:t>Что вы сегодня ожидаете от круглого стола?</a:t>
            </a:r>
            <a:br>
              <a:rPr sz="4000"/>
            </a:b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358128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1334" name="Рисунок 3" descr=""/>
          <p:cNvPicPr/>
          <p:nvPr/>
        </p:nvPicPr>
        <p:blipFill>
          <a:blip r:embed="rId1"/>
          <a:stretch/>
        </p:blipFill>
        <p:spPr>
          <a:xfrm>
            <a:off x="6016680" y="3706920"/>
            <a:ext cx="31273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581aa"/>
                </a:solidFill>
                <a:latin typeface="Century Gothic"/>
              </a:rPr>
              <a:t>Образовательные траектории </a:t>
            </a:r>
            <a:endParaRPr b="0" lang="en-US" sz="4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942920" y="358128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1337" name="Рисунок 3" descr=""/>
          <p:cNvPicPr/>
          <p:nvPr/>
        </p:nvPicPr>
        <p:blipFill>
          <a:blip r:embed="rId1"/>
          <a:stretch/>
        </p:blipFill>
        <p:spPr>
          <a:xfrm>
            <a:off x="6004080" y="371808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83520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В международном стандарте профессий около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9500 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профессий. В городе </a:t>
            </a: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Хабаровске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 около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700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 профессий из которых вам необходимо выбрать </a:t>
            </a: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одну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9" name=""/>
          <p:cNvGraphicFramePr/>
          <p:nvPr/>
        </p:nvGraphicFramePr>
        <p:xfrm>
          <a:off x="900000" y="2349360"/>
          <a:ext cx="7993080" cy="3527640"/>
        </p:xfrm>
        <a:graphic>
          <a:graphicData uri="http://schemas.openxmlformats.org/drawingml/2006/table">
            <a:tbl>
              <a:tblPr/>
              <a:tblGrid>
                <a:gridCol w="2664000"/>
                <a:gridCol w="2663640"/>
                <a:gridCol w="2665440"/>
              </a:tblGrid>
              <a:tr h="1059120">
                <a:tc>
                  <a:txBody>
                    <a:bodyPr lIns="63720" rIns="6372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КТО принимает решение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КАК принимает решение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КАК конкретно воплотить 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Century Gothic"/>
                        </a:rPr>
                        <a:t>(хочу, могу надо)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lIns="63720" rIns="6372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c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40" name="Прямоугольник 3"/>
          <p:cNvSpPr/>
          <p:nvPr/>
        </p:nvSpPr>
        <p:spPr>
          <a:xfrm>
            <a:off x="1519200" y="836640"/>
            <a:ext cx="76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Times New Roman"/>
                <a:ea typeface="Calibri"/>
              </a:rPr>
              <a:t>Таблица факторов, которые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Times New Roman"/>
                <a:ea typeface="Calibri"/>
              </a:rPr>
              <a:t>влияют на выбор профессии и УЗ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1800" spc="-1" strike="noStrike" u="sng">
              <a:solidFill>
                <a:srgbClr val="1581aa"/>
              </a:solidFill>
              <a:uFillTx/>
              <a:latin typeface="Century Gothic"/>
            </a:endParaRPr>
          </a:p>
        </p:txBody>
      </p:sp>
      <p:sp>
        <p:nvSpPr>
          <p:cNvPr id="1342" name="AutoShape 3"/>
          <p:cNvSpPr/>
          <p:nvPr/>
        </p:nvSpPr>
        <p:spPr>
          <a:xfrm>
            <a:off x="6156360" y="1916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3" name="AutoShape 4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4" name="AutoShape 5"/>
          <p:cNvSpPr/>
          <p:nvPr/>
        </p:nvSpPr>
        <p:spPr>
          <a:xfrm>
            <a:off x="468360" y="2060640"/>
            <a:ext cx="2590920" cy="1439640"/>
          </a:xfrm>
          <a:prstGeom prst="cube">
            <a:avLst>
              <a:gd name="adj" fmla="val 23194"/>
            </a:avLst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5" name="Text Box 6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250920" y="2342160"/>
            <a:ext cx="7393320" cy="4031640"/>
          </a:xfrm>
          <a:prstGeom prst="rect">
            <a:avLst/>
          </a:prstGeom>
          <a:solidFill>
            <a:srgbClr val="35353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f0e66"/>
                </a:solidFill>
                <a:latin typeface="Century Gothic"/>
              </a:rPr>
              <a:t>Первый фактор «</a:t>
            </a:r>
            <a:r>
              <a:rPr b="1" i="1" lang="ru-RU" sz="4400" spc="-1" strike="noStrike" u="sng">
                <a:solidFill>
                  <a:srgbClr val="7f0e66"/>
                </a:solidFill>
                <a:uFillTx/>
                <a:latin typeface="Century Gothic"/>
              </a:rPr>
              <a:t>Хочу</a:t>
            </a:r>
            <a:r>
              <a:rPr b="1" lang="ru-RU" sz="3600" spc="-1" strike="noStrike">
                <a:solidFill>
                  <a:srgbClr val="7f0e66"/>
                </a:solidFill>
                <a:latin typeface="Century Gothic"/>
              </a:rPr>
              <a:t>»:</a:t>
            </a:r>
            <a:r>
              <a:rPr b="1" lang="ru-RU" sz="2400" spc="-1" strike="noStrike">
                <a:solidFill>
                  <a:srgbClr val="7f0e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0e66"/>
                </a:solidFill>
                <a:latin typeface="Century Gothic"/>
              </a:rPr>
              <a:t>Помочь подростку оценить его интересы и склонности, выяснить, какие профессии ему нравятся, представляет ли он, чем хотел бы заниматься каждый трудовой д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9:06:55Z</dcterms:created>
  <dc:creator>Светлана</dc:creator>
  <dc:description/>
  <dc:language>en-US</dc:language>
  <cp:lastModifiedBy>User</cp:lastModifiedBy>
  <dcterms:modified xsi:type="dcterms:W3CDTF">2022-01-05T00:45:51Z</dcterms:modified>
  <cp:revision>36</cp:revision>
  <dc:subject/>
  <dc:title>Слайд 1</dc:title>
</cp:coreProperties>
</file>